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77E-DFE1-4EAF-8B60-E6D6F585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CC7-7849-46F1-A77C-724EF30D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7C6-2B68-4E77-B470-B9235E67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C81-814B-4929-830D-A9185C8F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F87-81ED-4685-B4C2-5ED1F9BB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E32-EB78-4C02-B2B2-89456342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66D-98D1-4892-8AFB-126C80AE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165-6062-4DD6-95C6-FD8E5B1D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0C4-D0F5-45E8-A1D1-E036B49D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59B-4789-4EA2-A391-EEDB175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50D-0837-41C3-B0C4-349CC32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F22-6DCD-456D-B931-EA89F0BA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5B7-BEAA-4E71-B98F-22F0AE70C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6643440" cy="1434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4191120" cy="47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0880" y="1789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2525760"/>
            <a:ext cx="830556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89640" y="1666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1866960" cy="35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076960" cy="34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8458200" cy="144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46483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464832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4572000"/>
            <a:ext cx="2286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458200" cy="6610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6324480"/>
            <a:ext cx="12952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6324480"/>
            <a:ext cx="1447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25520" y="1392120"/>
            <a:ext cx="64911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067680" cy="580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5120" y="5334120"/>
            <a:ext cx="62481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5:50:27Z</dcterms:created>
  <dc:creator>Graham</dc:creator>
  <dc:description/>
  <dc:language>en-US</dc:language>
  <cp:lastModifiedBy>Graham</cp:lastModifiedBy>
  <dcterms:modified xsi:type="dcterms:W3CDTF">2012-08-08T12:17:17Z</dcterms:modified>
  <cp:revision>2</cp:revision>
  <dc:subject/>
  <dc:title>Slide 1</dc:title>
</cp:coreProperties>
</file>